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E5D2-BE03-45C6-9009-070B32D3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A7B2-4E12-4143-8599-A42ABA65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2A1-41F1-4ED9-82FB-3A1A7FA9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3BB-9CEA-4343-AE59-E713E6DB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6C8-F567-4A1F-B9FB-96D147DA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97A1-5253-40CC-94E8-936507BA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AA7-018A-416F-90E5-DD4A838D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D0C-9931-4C9D-8451-4D108B38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418-A5F2-423C-9A06-59A115CA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CA5C-5E55-4F96-8C8F-1090430A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0A54-5670-4F59-AD2D-24484277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8ED8-9D98-4DD6-AFCF-A354F318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4C41-5364-490F-AE94-EE29537EE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380880"/>
            <a:ext cx="3962520" cy="5640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80880"/>
            <a:ext cx="3962520" cy="61970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1523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00400" y="419112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086600" y="411480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52280" y="42670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52280" y="2286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7772400" y="6094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7924680" y="5410080"/>
            <a:ext cx="100332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0" y="380880"/>
            <a:ext cx="3962520" cy="5640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80880"/>
            <a:ext cx="3962520" cy="61970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1523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00400" y="419112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086600" y="411480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52280" y="42670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152280" y="2286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7772400" y="6094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7924680" y="5410080"/>
            <a:ext cx="100332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0" y="380880"/>
            <a:ext cx="3962520" cy="5640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80880"/>
            <a:ext cx="3962520" cy="61970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523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200400" y="419112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086600" y="411480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52280" y="42670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152280" y="2286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7772400" y="6094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7924680" y="5410080"/>
            <a:ext cx="100332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0" y="380880"/>
            <a:ext cx="3962520" cy="5640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80880"/>
            <a:ext cx="3962520" cy="61970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1523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200400" y="419112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086600" y="411480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152280" y="42670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152280" y="2286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7772400" y="6094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7924680" y="5410080"/>
            <a:ext cx="100332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0" y="380880"/>
            <a:ext cx="3962520" cy="5640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380880"/>
            <a:ext cx="3962520" cy="61970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1523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200400" y="419112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7086600" y="411480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52280" y="42670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152280" y="2286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7772400" y="6094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7924680" y="5410080"/>
            <a:ext cx="100332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0" y="380880"/>
            <a:ext cx="3962520" cy="5640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380880"/>
            <a:ext cx="3962520" cy="61970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523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00400" y="419112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086600" y="411480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52280" y="42670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52280" y="2286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7772400" y="6094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7924680" y="5410080"/>
            <a:ext cx="100332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90720" y="609480"/>
            <a:ext cx="70102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OSETAS DE MAIZ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9880" y="4191120"/>
            <a:ext cx="4496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$ 2.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 LA MALE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629400" y="3200400"/>
            <a:ext cx="1790640" cy="31528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1791000" cy="31528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100" name=""/>
          <p:cNvSpPr txBox="1"/>
          <p:nvPr/>
        </p:nvSpPr>
        <p:spPr>
          <a:xfrm>
            <a:off x="2895480" y="533520"/>
            <a:ext cx="44960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Bebida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343400"/>
            <a:ext cx="533376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echnicLite"/>
                <a:ea typeface="TechnicLite"/>
              </a:rPr>
              <a:t>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7T18:29:23Z</dcterms:created>
  <dc:creator>ValeriaP</dc:creator>
  <dc:description/>
  <dc:language>en-US</dc:language>
  <cp:lastModifiedBy>Preferred Customer</cp:lastModifiedBy>
  <cp:lastPrinted>1999-05-10T17:34:35Z</cp:lastPrinted>
  <dcterms:modified xsi:type="dcterms:W3CDTF">2001-01-08T01:30:13Z</dcterms:modified>
  <cp:revision>4</cp:revision>
  <dc:subject/>
  <dc:title>No Slide Title</dc:title>
</cp:coreProperties>
</file>